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45C-DC72-45EB-8921-EF30D4FB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E1A-3F98-43C1-87A4-70B499C2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E92-3E8B-459B-8954-8B524CF8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3F9-0F50-4E97-952A-9780FFD6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A92-4350-42DD-8CAA-8B873760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E3F-72B3-4931-9CB6-0C44050C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668-7210-4995-9A47-ABC0937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598-8E1E-46BD-B17D-C2BECF35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3EC-B19B-49A9-87A7-E022191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7B6-532C-40F4-979E-E1FA0E05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05E-5373-4828-A7EA-C632F717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755-23F0-408C-941E-0885CC8F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289F-17F3-4CF5-A3C0-A5E9112F8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2000" y="981000"/>
            <a:ext cx="662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 of the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sion Lesson – S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end of the lesson you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understanding of types of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o make performance in hockey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p methods of gathering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e your results and se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i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se effect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of Gather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sed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you must know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carrie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vironment is it completed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nformation does it give 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valid/appropri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orkshe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 for unit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 1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vis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f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are these types of fitness important in ho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used to 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gather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9:48:54Z</dcterms:created>
  <dc:creator>hamiltonp</dc:creator>
  <dc:description/>
  <dc:language>en-US</dc:language>
  <cp:lastModifiedBy>hamiltonp</cp:lastModifiedBy>
  <dcterms:modified xsi:type="dcterms:W3CDTF">2010-11-09T09:57:57Z</dcterms:modified>
  <cp:revision>1</cp:revision>
  <dc:subject/>
  <dc:title>Slide 1</dc:title>
</cp:coreProperties>
</file>